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DC482-9B43-48FA-99DF-7F096C9E4F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89BD4-E052-48B4-B5C7-1766312D36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6AFF-D368-4521-A942-3337C4DB8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8F3E-0FEE-49E4-992B-E40FAB2C4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FBD1-9A38-45D8-B498-5334B3C7A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2120-828C-4CA3-97F9-FB42A6C1F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8393-0F0E-4D46-ACFD-492446A0F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BFEA-699F-438C-9149-8D6B17F4D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6EC3-BE4E-4794-BA81-526A26897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56D0-7921-4ED4-AC8E-2032A6AF2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BA95-6B02-4B3F-A0D4-4226783A2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D357-5F8B-406D-8AA2-2F21BA5D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3F39-5A27-4992-AD3E-457846937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AB60-F153-46B0-A403-17AC3D091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ED1F9-D789-4E67-8F44-B094A01E34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emra Gu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Kiara Zapanta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Kiara Zapant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Kiara Zapant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¿ Dónde está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3434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752840" cy="11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 . Mi llamas Semra. Y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Vives Queens. Yo tengo quince años. Yo soy amable y energica. Yo tengo dos hermanas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28520" y="4565520"/>
            <a:ext cx="657360" cy="951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17560" y="4565520"/>
            <a:ext cx="554040" cy="79848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28520" y="5559480"/>
            <a:ext cx="554040" cy="79200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27040" y="4565520"/>
            <a:ext cx="451080" cy="64620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09960" y="2511360"/>
            <a:ext cx="480960" cy="944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09960" y="3273480"/>
            <a:ext cx="577800" cy="834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09960" y="3803760"/>
            <a:ext cx="480960" cy="9507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00400"/>
            <a:ext cx="388620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36880" y="4492800"/>
            <a:ext cx="650880" cy="9442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Hola .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36880" y="5175360"/>
            <a:ext cx="474480" cy="95076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4240" y="6016680"/>
            <a:ext cx="650880" cy="9446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4T14:57:18Z</dcterms:created>
  <dc:creator>FriscoISD</dc:creator>
  <dc:description/>
  <dc:language>en-US</dc:language>
  <cp:lastModifiedBy>NYCDOE</cp:lastModifiedBy>
  <dcterms:modified xsi:type="dcterms:W3CDTF">2012-12-04T15:09:01Z</dcterms:modified>
  <cp:revision>104</cp:revision>
  <dc:subject/>
  <dc:title>Profile</dc:title>
</cp:coreProperties>
</file>